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F19B-0A8C-4540-8462-331134F39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4A42-858C-4DF4-8400-3A5596C2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CB08-102D-4B67-AC2B-0C8F9AD1C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8C27-336A-4E5B-B486-2CF9DD219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FDE7-3A13-47FA-831B-61F01CCD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A686-12DF-4290-9CEF-ADCFF6F5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2526-938D-441D-AF59-F0468F1D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E4AF-90A1-430F-87CF-B0105CDF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19B5-2D88-4F62-A0AF-4C5042B9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4518-0C67-403A-A9E6-B5F18FC4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89AE-1244-4D5D-B173-21263A44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3573-FC4A-4D41-90FB-8DA804E1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DB29-5C51-4771-9D07-032CA0019720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更深渴慕你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1/2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Deeper Long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71480" y="6292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展開清晨的翅膀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更深渴慕你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2/2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Deeper Long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71480" y="6292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展開清晨的翅膀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23:26:47Z</dcterms:created>
  <dc:creator> </dc:creator>
  <dc:description/>
  <dc:language>en-US</dc:language>
  <cp:lastModifiedBy> </cp:lastModifiedBy>
  <dcterms:modified xsi:type="dcterms:W3CDTF">2004-06-16T23:26:52Z</dcterms:modified>
  <cp:revision>1</cp:revision>
  <dc:subject/>
  <dc:title>更深渴慕你 &lt;1/2&gt; Deeper Longing</dc:title>
</cp:coreProperties>
</file>